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B5A-DD6D-4328-958F-9E484832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B15-854F-4833-93C2-0904BDEF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155-9C67-4048-AC2B-A041A04C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097-12F0-47BD-AF85-102E0690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3C52-D770-4CCC-B256-990B7888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2AF6-6047-4384-8C4D-FCD76C35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7B05-1F29-4C6A-9D92-6C8CC3B3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758-E4FE-4F77-8A2B-6C56165F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B60E-9B6C-4E11-B876-EA92CF9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292A-2F5C-42D6-8285-DCFEEDB4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29AD-45DB-440B-A4EC-D38A8D5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543-AB7B-4CEB-8F28-6BD70F0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2B74-8633-4216-9267-F37B0D56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E90D-9085-43A4-99D5-6B8F201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11F1-5B51-41F5-8A31-700DB4E5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8003-DFAD-4360-BFFC-A94D6B80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7E27-83AE-4597-AD8A-A3F421E0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8F556-1A95-42D7-A778-95D56AD6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E3F52-D51F-4D81-8FA6-F59723AF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2997A-970E-47A8-A76F-34278E35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D3851-C7EC-4C74-BCFA-6A413414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9AC59-841F-4E53-9C06-300F4C68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D31-4D6F-4C30-9508-FF78BC47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153F8-CE15-45A9-9B7D-5A9BB64A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5C5C4-E77E-4399-A245-76DF777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F5253-B7E9-4E26-86CC-19B877E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4D683-4FEB-4045-939D-3F74A1F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7CD0F-9495-45E6-899A-66669D3D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3D5E9-0C8C-4609-8120-7BFF5F37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9CD46-A0B1-4262-8986-5968DAAF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F9E9D-4C76-4332-AA98-EBCD2735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3444-97D3-418A-8E63-7EE25B47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9769-6AB7-41B9-A874-05CED6AE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9B8-129D-44B8-9D34-DF37F62E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C7A1E-C360-4952-BF62-163D9249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6768E-038B-4807-92B4-4BF8C661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4DE6-4FE3-4A87-8849-6C78F40A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5528-A758-4A45-8CBB-2FBDAF0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D2886-0DDE-4E46-9C12-EA810B8D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3F6C-2153-4CC4-860F-3A63D3B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B5FD8-37AE-48E0-BF1D-0459B492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2243-55B2-4646-9BD4-8967AE9A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ACEA-216F-4800-9DAF-8CBB9253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3B4-5441-404B-9089-48406CB8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1CE-651A-4F47-9307-AE01302F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34C-1F5A-496B-9EF6-F1735F6D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478-89C8-4BB4-A547-7AA4522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AE3-CB3F-49CC-B679-F7EFFFE5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25F1-F4F6-463B-8FBB-601D0DB703B5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BE42-D6FA-439E-A021-25E7964E87B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23D1-FA00-4BC7-AD55-2C85DE8FA632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DD94-6268-47BC-8CB9-5A6158E598FD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2C2C-6E17-47A8-965C-1E55E67E4980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D7C3-23CE-4511-A7F1-ECC1DD71581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B259-A87C-492E-A531-1F2AF7B51A4D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23BA-54CA-45A7-A077-05E46D3A785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Why Physical Exercise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Health Issue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Sophia Gammerle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Quarter 3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itations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http://www.gesundheit.de/fitness/fitness-uebungen/rueckenuebungen/rueckenuebungen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http://www.funvit.de/artikel/Bewegung_als_Rezept_fuer_Vitalitaet_und_ein_gesundes_Herz_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http://seek4fitness.net/de/Artikel/View/FAQs-zu-Übungen-und-Gesundheit.htm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http://www.provita-fitness.d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ulture Pictur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9" name="Content Placeholder 11" descr="bi-willkommen-provita-fitness-gesundheit-seniorensport-springe-003-1.jpg"/>
          <p:cNvPicPr/>
          <p:nvPr/>
        </p:nvPicPr>
        <p:blipFill>
          <a:blip r:embed="rId1"/>
          <a:srcRect l="-13138" t="0" r="-13138" b="0"/>
          <a:stretch/>
        </p:blipFill>
        <p:spPr>
          <a:xfrm>
            <a:off x="701640" y="2170080"/>
            <a:ext cx="7802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Physical Exercise helps in many way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hysical exercise helps lower diabetes ris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ck pain can be reduced by doing different exercise mov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 healthy heart will be rewarded with daily exercis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mmune system will be stronger and can fight sickness better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t also helps with joint pain which is called Gelenkschmerzen in Germany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 proble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0" name="Content Placeholder 3" descr="images.jpeg"/>
          <p:cNvPicPr/>
          <p:nvPr/>
        </p:nvPicPr>
        <p:blipFill>
          <a:blip r:embed="rId1"/>
          <a:srcRect l="0" t="11111" r="0" b="11111"/>
          <a:stretch/>
        </p:blipFill>
        <p:spPr>
          <a:xfrm>
            <a:off x="1414440" y="2467080"/>
            <a:ext cx="3780000" cy="1955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images-1.jpeg"/>
          <p:cNvPicPr/>
          <p:nvPr/>
        </p:nvPicPr>
        <p:blipFill>
          <a:blip r:embed="rId2"/>
          <a:stretch/>
        </p:blipFill>
        <p:spPr>
          <a:xfrm>
            <a:off x="4664160" y="2995560"/>
            <a:ext cx="2717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re is a quote in German: “Sport hält jung!” This translates into: “Sport makes you stay young!”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or older people it is important to work on the muscle tissue for better flexibility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70% of Germans have once a year back problem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is is because of sitting at work too long and not having exercise dail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re are many ways to ease back problems, some are yoga and pilates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ercise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Content Placeholder 3" descr="vierfuesslerstand.jpg"/>
          <p:cNvPicPr/>
          <p:nvPr/>
        </p:nvPicPr>
        <p:blipFill>
          <a:blip r:embed="rId1"/>
          <a:srcRect l="0" t="10990" r="0" b="10990"/>
          <a:stretch/>
        </p:blipFill>
        <p:spPr>
          <a:xfrm>
            <a:off x="1042920" y="2324160"/>
            <a:ext cx="4025880" cy="2084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articles.jpg"/>
          <p:cNvPicPr/>
          <p:nvPr/>
        </p:nvPicPr>
        <p:blipFill>
          <a:blip r:embed="rId2"/>
          <a:stretch/>
        </p:blipFill>
        <p:spPr>
          <a:xfrm>
            <a:off x="4471920" y="3973680"/>
            <a:ext cx="337176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ercise is neede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retching is needed for the Muscles to not tense up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ith exercise your body feels better and you don’t run in to too many problems of having pain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ercise should not hurt it has to feel good to you and your body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y little movement helps like taking a walk, garden work, or riding your bik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ercise also helps with burning fat. You don</a:t>
            </a:r>
            <a:r>
              <a:rPr b="0" lang="fr-FR" sz="2200" spc="-1" strike="noStrike">
                <a:solidFill>
                  <a:srgbClr val="3e3d2d"/>
                </a:solidFill>
                <a:latin typeface="Century Gothic"/>
              </a:rPr>
              <a:t>’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 need a long workout, 30min. workout is fin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c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Content Placeholder 5" descr="images-3.jpeg"/>
          <p:cNvPicPr/>
          <p:nvPr/>
        </p:nvPicPr>
        <p:blipFill>
          <a:blip r:embed="rId1"/>
          <a:srcRect l="0" t="11111" r="0" b="11111"/>
          <a:stretch/>
        </p:blipFill>
        <p:spPr>
          <a:xfrm>
            <a:off x="1042920" y="2338560"/>
            <a:ext cx="4165560" cy="2155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images-4.jpeg"/>
          <p:cNvPicPr/>
          <p:nvPr/>
        </p:nvPicPr>
        <p:blipFill>
          <a:blip r:embed="rId2"/>
          <a:stretch/>
        </p:blipFill>
        <p:spPr>
          <a:xfrm>
            <a:off x="4896000" y="2935440"/>
            <a:ext cx="25653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Questions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is the most common pain problem in Germany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w limited in time can the workout be, to be affective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nswers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ck pai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0 minut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7:43:47Z</dcterms:created>
  <dc:creator>Sophia1 Gammerler</dc:creator>
  <dc:description/>
  <dc:language>en-US</dc:language>
  <cp:lastModifiedBy>Sophia1 Gammerler</cp:lastModifiedBy>
  <dcterms:modified xsi:type="dcterms:W3CDTF">2013-01-28T17:49:55Z</dcterms:modified>
  <cp:revision>13</cp:revision>
  <dc:subject/>
  <dc:title>Why Physical Exercise?</dc:title>
</cp:coreProperties>
</file>